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9D7-7B31-41A5-9136-7FD82F33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6B3-A97A-467C-85A9-67E2AAA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12D-BAFC-4DA0-AEEA-912EF97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652-26EA-45CB-9FEE-134EE02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CFA-8E9C-40D2-8E2A-0FFF32B3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336-B082-4A79-9C89-52EC22B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A81-2C7C-48E5-B447-489C9038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12C-97BE-4691-B289-59F11E59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815-ADAD-4899-8C55-2A6067FC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C5F-E720-42F1-8339-5CDEABE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76B-3020-473C-92AC-A44A99A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645-351C-4DDB-B534-C4970F1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1CA7-EF3A-460B-9191-5D8992122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zzlejunction.com/graphics-sports/nfl-logos/minnesota-vikings-2.gif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bensguide.gpo.gov/3-5/state/minnesota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8072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postcardsfrom.com/t1/980720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4648320"/>
            <a:ext cx="3657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Myles 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de Latin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143000"/>
            <a:ext cx="7848720" cy="358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1680">
                  <a:solidFill>
                    <a:srgbClr val="000000"/>
                  </a:solidFill>
                  <a:prstDash val="dash"/>
                  <a:miter/>
                </a:ln>
                <a:solidFill>
                  <a:srgbClr val="ffffff"/>
                </a:solidFill>
                <a:latin typeface="Arial Black"/>
              </a:rPr>
              <a:t>Minnesota</a:t>
            </a:r>
            <a:endParaRPr b="0" i="1" lang="en-US" sz="1800" spc="1" strike="noStrike">
              <a:ln w="31680">
                <a:solidFill>
                  <a:srgbClr val="000000"/>
                </a:solidFill>
                <a:prstDash val="dash"/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96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32448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innesota so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/7/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ww.50states.com/minnes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St.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4,919,4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May 11,1858 the 3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The Star of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North Star; Bread and Butter; Go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Pink White Lady’s Sl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Commo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Hail!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Four Minnesota teams that are Professional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Vikings (Foo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Wolves (Hoc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Mavericks (Basket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nnesota Twins (Baseb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4952880"/>
            <a:ext cx="2362320" cy="169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938840"/>
            <a:ext cx="609588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zzle Junctions,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Minnesota Vik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10-1-10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images.google.com/imgres?imgurl=http://www.dazzlejunction.com/graphics-sports/nfl-logos/minnesota-vikings-2.gif&amp;imgrefurl=http://www.dazzlejunction.com/graphics-sports/nfl-logos/%3Fpage%3D9&amp;usg=__yIiI4bdxdtpzGDluY5ozCUZg4fI=&amp;h=303&amp;w=385&amp;sz=120&amp;hl=en&amp;start=39&amp;zoom=1&amp;itbs=1&amp;tbnid=KFuYULW1Tn9KwM:&amp;tbnh=97&amp;tbnw=123&amp;prev=/images%3Fq%3Dminnesota%2Bvikings%26start%3D36%26hl%3Den%26sa%3DN%26gbv%3D2%26ndsp%3D18%26tbs%3Disch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Minnesota: Map and State Flag"/>
          <p:cNvPicPr/>
          <p:nvPr/>
        </p:nvPicPr>
        <p:blipFill>
          <a:blip r:embed="rId2"/>
          <a:srcRect l="4784" t="0" r="5594" b="57864"/>
          <a:stretch/>
        </p:blipFill>
        <p:spPr>
          <a:xfrm rot="2217000">
            <a:off x="754200" y="1393560"/>
            <a:ext cx="2895480" cy="284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Minnesota: Map and State Flag"/>
          <p:cNvPicPr/>
          <p:nvPr/>
        </p:nvPicPr>
        <p:blipFill>
          <a:blip r:embed="rId3"/>
          <a:srcRect l="0" t="47064" r="0" b="0"/>
          <a:stretch/>
        </p:blipFill>
        <p:spPr>
          <a:xfrm>
            <a:off x="5257800" y="1600200"/>
            <a:ext cx="344016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495288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en’s Guild to U.S. Government,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Arial"/>
              </a:rPr>
              <a:t>Quick Facts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Arial"/>
              </a:rPr>
              <a:t>Minnesota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9/22/10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minnesot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his is the State Flag and border of the state of Minnes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 Sculpture Garden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49528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inneapolis, M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7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inneapolis a big city in Minnes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Minnesota State House"/>
          <p:cNvPicPr/>
          <p:nvPr/>
        </p:nvPicPr>
        <p:blipFill>
          <a:blip r:embed="rId2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5181480"/>
            <a:ext cx="6400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ST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ul, M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3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t1/9807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the capital of Minnesota it’s called Saint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1:27Z</dcterms:created>
  <dc:creator>install</dc:creator>
  <dc:description/>
  <dc:language>en-US</dc:language>
  <cp:lastModifiedBy>install</cp:lastModifiedBy>
  <dcterms:modified xsi:type="dcterms:W3CDTF">2010-10-21T15:52:42Z</dcterms:modified>
  <cp:revision>14</cp:revision>
  <dc:subject/>
  <dc:title>Slide 1</dc:title>
</cp:coreProperties>
</file>